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07AC-2423-492C-BD3D-671D981F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BC5C-5C8C-4AE1-BE29-4BD9532F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8BB-7799-4698-8BB1-58047C15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DF8-6CB7-4561-B82E-1C74D1F3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0903-F4F5-4BFC-A5F4-45ED4BB8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212-B29D-4508-B504-46E10C5A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E54-EC9A-474E-BD5A-2EAABA4F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E29-4120-401D-AB8A-87194A5C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587-FF32-4D15-AE3D-C673119E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724-9571-48AF-A0BA-FA4A8C3A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E013-297E-4916-B2C6-0D531A4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EFC-1D31-43C9-83D7-572477B3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9BA4-F9BF-477A-984D-7DD671A6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8A3-EDE5-4DD4-99D7-F150ED1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8F74-E703-40C7-A931-6EADBD47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DA6-36B5-4AC7-A25A-DDEE575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53C-EA70-40AD-BC37-E64C0D57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EBB-7014-4190-B636-FB2A6C5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F108-1BD1-45F8-B109-DA5DE49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3208-0B9D-42C6-AB08-7F55E49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3279-EF45-4809-87FD-64B3605D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5D40-AA46-449A-B2D3-40F162FF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B457-F255-40D1-8230-02EBE2C6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5C9AD-47D5-4656-97AF-97F14DC3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FB0E0-5208-4BD2-91DE-B58505B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2283F-1226-4C14-9859-C15F389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A9A06-48BF-4D41-9086-35DF4A82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869-305B-4A2B-B74F-2871181F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4A9C6-CB03-4319-A3FC-8688AF4F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9DF1A-B1C4-43EF-9C56-4990F99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5A49E-B53E-403F-BB64-B2B418D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4CEC7-4BD9-4937-84E6-845EBEA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38AFD-16A7-43C9-83DC-88CF72F3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91C5F-0155-4D2F-897C-1FADB117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09931-4334-42DE-A351-BF868028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67D0-F573-43A3-AF28-D4AC9678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49BC-A2DB-4BDC-B07E-54985ED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A334-C141-4903-BE2A-2D81067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742-5CB9-491C-93EE-E8DD9B7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27F6-8D8D-453F-ACD8-3B8D49D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799C-1898-492A-85FB-B932D66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9FB2-1E0F-49EB-B337-CD9D718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C636-A521-4B9A-BD64-E1A73BD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0554-DC59-4833-9056-6C8D387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E834-BD92-4672-BD7A-DDAB9E0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3729-BD9B-49F5-96F2-6A55703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BD3C-1F27-4387-AA42-DA14EC0A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9AD5-C9AF-4F83-AADD-972E95F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8CDDE-AE43-4A09-947C-8EA1939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F76-FFD7-4FC3-85F1-8CD0171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A4D61-45EA-44F1-AEA8-ACB26C69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AB6B2-0585-4366-A3B9-CC5C987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961C2-A690-400B-9FAE-175614E5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66F35-0F6B-48EE-90EB-0F6CDDF8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70FD0-367C-4F20-B9A6-78C0708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8CECD-BC43-4338-B6A6-10AC75E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15BEC-8160-4AA1-941F-054C878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B8BEB-DCE9-48EC-90D5-16F7639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3666A-4858-4317-9FE2-2CA34BC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443E0-F000-40B6-BEC1-A82B5490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213-915B-4A3E-AC2B-261871A1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A1805-95C8-4F60-B9CC-7A8DC94B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B883E-EB45-43D6-BDB0-B176E774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3CB8A-D9AD-4382-A1D9-E00FCC3A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44C28-34D8-4233-B1D6-8246CFC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84AE3-9338-4FB4-A6A0-10EFEF2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B4A28-0142-4D5C-9AD3-45D5773D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A565F-B6D3-42F7-A4A2-6B2427CF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647A0-1C13-49FF-BB00-30F28B7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49DFF-13E5-475D-9BDA-54FF45A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71388-5DCC-4A9C-9839-03FD4A8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ED5-9FC8-441A-ACD9-02029CA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878A5-26BE-44E0-9B40-8CA7B6F8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AA467-ADE9-481E-8C7A-87439924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37BB5-70CD-4B15-B7E2-6059D2B2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DF776-EC81-4C62-8A53-2032CBCA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1CA50-1416-436A-B739-50E1E6A6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11918-D2E5-4A00-A33D-F765454D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4A98F-DD02-46CF-9E67-F44512A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C2CFD-C56D-4A41-9D36-943ECD56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ABD5D-9F96-4207-8677-50879A7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30701-A1D6-4462-A44D-3FC9BFE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C33-3F6B-4624-90DC-F58FE43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59E8A-0604-431D-B995-F25E9CE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DAE0F-FEFD-4C96-B09A-B4DE5C1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36917-FEB7-43C6-8DDA-B7B40A09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9D444-83F0-410F-8692-5C244EEC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06BA7-FC25-43F4-ADF0-39AD4715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3DE-E737-4F44-A139-A21191A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EEBA-542F-49C3-8811-6F1424FBFB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E5F-4E8F-4CD8-8CFD-9E15884EDB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7C0F-EE76-4B23-8888-908905969C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9D18-B5FB-4E3E-B704-B603A6F40C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E36-1439-4E4C-9D3F-943DFDAEBE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82B-D240-4073-9383-A8E983B8B1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D7E-582B-4C36-91D6-6C21C6F0FE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gRrKZL7U8AwiGjzbkF/SIG=12t1vol53/EXP=1269300625/**http%3A//microbiologystudents.com/data/gal_media/1024033_com_h1n1_influ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ds.yahoo.com/_ylt=A0WTb_hArKZLZw8Ay32jzbkF/SIG=11svc574l/EXP=1269300672/**http%3A//planetflu.com/images/flu.ht20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575f6d"/>
                </a:solidFill>
                <a:latin typeface="Comic Sans MS"/>
              </a:rPr>
              <a:t>BACTERIA &amp; VIRUSES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INFECTIOUS DISEASE SPRE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ctious disease can be spread through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n infected per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Influenza (V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 contaminated objec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thleteis foot (F) or Influenza (V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n infected ani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Lyme Disease (B): Bite from infected 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 with an environmental sour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629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CTORS HELP SPREAD DISEA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ctor is an organism that helps a disease spre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 and insects serve as ve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rier is an organism infected with and can transmit disease causing microbe to another living th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124080" cy="2060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0477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VIR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st Nile Vir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al Mening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on Col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IDS/H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icken P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ow Fever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bo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VIR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use disease by either damaging or killing cel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rst attaches itself to a healthy cell and then injects its DNA or RNA into ce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n replicates once inside infected ce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 Cure, just prevention with vaccin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Vaccine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: a substance introduced into the body to stimulate the production of chemicals that destroy specific viruses or bacteria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324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597040" cy="30481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6"/>
          <p:cNvSpPr/>
          <p:nvPr/>
        </p:nvSpPr>
        <p:spPr>
          <a:xfrm>
            <a:off x="496440" y="3429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1N1: Swine Fl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0" name="Picture 8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91120"/>
            <a:ext cx="2381400" cy="22003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806040" y="6324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5N1: Avian Fl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2" name="Picture 11" descr="View Image"/>
          <p:cNvPicPr/>
          <p:nvPr/>
        </p:nvPicPr>
        <p:blipFill>
          <a:blip r:embed="rId5"/>
          <a:stretch/>
        </p:blipFill>
        <p:spPr>
          <a:xfrm>
            <a:off x="6772320" y="0"/>
            <a:ext cx="2371680" cy="23814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2"/>
          <p:cNvSpPr/>
          <p:nvPr/>
        </p:nvSpPr>
        <p:spPr>
          <a:xfrm>
            <a:off x="5572440" y="3808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asl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14" descr="View Image"/>
          <p:cNvPicPr/>
          <p:nvPr/>
        </p:nvPicPr>
        <p:blipFill>
          <a:blip r:embed="rId6"/>
          <a:stretch/>
        </p:blipFill>
        <p:spPr>
          <a:xfrm>
            <a:off x="6811920" y="3429000"/>
            <a:ext cx="2332080" cy="3429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5"/>
          <p:cNvSpPr/>
          <p:nvPr/>
        </p:nvSpPr>
        <p:spPr>
          <a:xfrm>
            <a:off x="7315200" y="3048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epatit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6" name="Picture 17" descr="View Image"/>
          <p:cNvPicPr/>
          <p:nvPr/>
        </p:nvPicPr>
        <p:blipFill>
          <a:blip r:embed="rId7"/>
          <a:stretch/>
        </p:blipFill>
        <p:spPr>
          <a:xfrm>
            <a:off x="3124080" y="5335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5435280" y="2438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ab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8" name="Picture 20" descr="West-Nile-W-450"/>
          <p:cNvPicPr/>
          <p:nvPr/>
        </p:nvPicPr>
        <p:blipFill>
          <a:blip r:embed="rId8"/>
          <a:stretch/>
        </p:blipFill>
        <p:spPr>
          <a:xfrm>
            <a:off x="3962520" y="3276720"/>
            <a:ext cx="2438280" cy="25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1"/>
          <p:cNvSpPr/>
          <p:nvPr/>
        </p:nvSpPr>
        <p:spPr>
          <a:xfrm>
            <a:off x="3303000" y="5867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est Nile Vir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BACTE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antibiotics to cure bacterial inf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tibiot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a chemical that can kill bacteria without harming a person’s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 can develop a resistance to antibiotic and will no longer ki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what happens when you do not take medicine complete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57440" y="1600200"/>
            <a:ext cx="267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yme Disease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pros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l Mening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S BY PROT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ists that cause each of these diseases are caused by parasi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asite is an organism that takes nourishment or habitat from another organ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cases do not kill the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410080" y="1600200"/>
            <a:ext cx="251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ysen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laria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2895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ACTERISTICS OF ORGANIS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are composed of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perform certain chemical processes such as growth and dig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can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either make their own nutrients or ingest nutrients from the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respond to stimuli such as light and tou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629400" y="4829040"/>
            <a:ext cx="2257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PROKARYO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t microbes are prokaryo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ist almost every where on ear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s that do not have a nucle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ains a rigid cell wall, cytoplasm and ribosom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ntifying Prokaryote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Sha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so23_09"/>
          <p:cNvPicPr/>
          <p:nvPr/>
        </p:nvPicPr>
        <p:blipFill>
          <a:blip r:embed="rId1"/>
          <a:stretch/>
        </p:blipFill>
        <p:spPr>
          <a:xfrm>
            <a:off x="5715000" y="1143000"/>
            <a:ext cx="31878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ACTERIA"/>
          <p:cNvPicPr/>
          <p:nvPr/>
        </p:nvPicPr>
        <p:blipFill>
          <a:blip r:embed="rId1"/>
          <a:stretch/>
        </p:blipFill>
        <p:spPr>
          <a:xfrm>
            <a:off x="5638680" y="457200"/>
            <a:ext cx="3272040" cy="62485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521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BACTERIUM SHAP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21896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cc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Sphere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Bacill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Rod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pirrilli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~ Spiral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TERIAL SHAP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closed by a cell wa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cytoplasm and hereditary material of the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bsomes are the only organelle found in the cytopla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6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WHAT ARE VIRUS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57400" y="12193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virus is a non-cellular particle made up of genetic material and protein that can invade living cells and reproduc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viruses"/>
          <p:cNvPicPr/>
          <p:nvPr/>
        </p:nvPicPr>
        <p:blipFill>
          <a:blip r:embed="rId1"/>
          <a:stretch/>
        </p:blipFill>
        <p:spPr>
          <a:xfrm>
            <a:off x="380880" y="1600200"/>
            <a:ext cx="1752840" cy="2374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int6"/>
          <p:cNvPicPr/>
          <p:nvPr/>
        </p:nvPicPr>
        <p:blipFill>
          <a:blip r:embed="rId2"/>
          <a:stretch/>
        </p:blipFill>
        <p:spPr>
          <a:xfrm>
            <a:off x="152280" y="4389480"/>
            <a:ext cx="3353040" cy="2468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HIV-Structure"/>
          <p:cNvPicPr/>
          <p:nvPr/>
        </p:nvPicPr>
        <p:blipFill>
          <a:blip r:embed="rId3"/>
          <a:stretch/>
        </p:blipFill>
        <p:spPr>
          <a:xfrm>
            <a:off x="5715000" y="4206960"/>
            <a:ext cx="32767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RUS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the ability to reproduce, viruses lack nearly every characteristic of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composed of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respond to stimu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use energy for growth and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electron microscope to s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omic Sans MS"/>
              </a:rPr>
              <a:t>VIRAL STRU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Viruses_Vstructure-ntxt_sx5777b3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953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Viruses_Vstructure-text_sx5777b3"/>
          <p:cNvPicPr/>
          <p:nvPr/>
        </p:nvPicPr>
        <p:blipFill>
          <a:blip r:embed="rId2"/>
          <a:stretch/>
        </p:blipFill>
        <p:spPr>
          <a:xfrm>
            <a:off x="5181480" y="1523880"/>
            <a:ext cx="37339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change that disrupts the normal function of one or more body syste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oninfectious dis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iseases caused by exposure to certain chemicals or traits that are inherit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fectious dis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iseases caused by a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thog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ny microbe that causes disease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0:11:08Z</dcterms:created>
  <dc:creator>Alisha Flores</dc:creator>
  <dc:description/>
  <dc:language>en-US</dc:language>
  <cp:lastModifiedBy>jcameron</cp:lastModifiedBy>
  <dcterms:modified xsi:type="dcterms:W3CDTF">2012-10-10T19:56:39Z</dcterms:modified>
  <cp:revision>48</cp:revision>
  <dc:subject/>
  <dc:title>Viruses &amp; Bacteria</dc:title>
</cp:coreProperties>
</file>